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5486400" cy="41148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1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1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1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1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AutoShape 1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AutoShape 1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AutoShape 1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AutoShape 1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1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AutoShape 1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AutoShape 2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AutoShape 2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AutoShape 2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AutoShape 2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AutoShape 2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AutoShape 2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AutoShape 2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AutoShape 2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AutoShape 2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AutoShape 2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AutoShape 3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AutoShape 3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AutoShape 3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AutoShape 3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AutoShape 3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AutoShape 3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AutoShape 3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AutoShape 3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AutoShape 3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3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AutoShape 4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4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4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4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4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4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4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4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4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4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5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5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5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5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5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5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5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5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5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5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6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6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6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6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6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6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6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6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6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6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7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7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7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7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7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7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7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7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7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7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8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8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8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8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8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8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8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8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8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488808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7680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3208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dt" idx="1"/>
          </p:nvPr>
        </p:nvSpPr>
        <p:spPr>
          <a:xfrm>
            <a:off x="4398480" y="-360"/>
            <a:ext cx="323244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2"/>
          </p:nvPr>
        </p:nvSpPr>
        <p:spPr>
          <a:xfrm>
            <a:off x="0" y="9554760"/>
            <a:ext cx="3232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 type="sldNum" idx="3"/>
          </p:nvPr>
        </p:nvSpPr>
        <p:spPr>
          <a:xfrm>
            <a:off x="4398480" y="9554760"/>
            <a:ext cx="323244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7EB3B8-8FBF-4234-BA2B-2A60BC09EFE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94"/>
          <p:cNvSpPr/>
          <p:nvPr/>
        </p:nvSpPr>
        <p:spPr>
          <a:xfrm>
            <a:off x="4398840" y="9555120"/>
            <a:ext cx="323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2756E5-242F-4186-A46C-28F5BDD696A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 Box 1"/>
          <p:cNvSpPr/>
          <p:nvPr/>
        </p:nvSpPr>
        <p:spPr>
          <a:xfrm>
            <a:off x="1371600" y="763560"/>
            <a:ext cx="5000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7860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94"/>
          <p:cNvSpPr/>
          <p:nvPr/>
        </p:nvSpPr>
        <p:spPr>
          <a:xfrm>
            <a:off x="4398840" y="9555120"/>
            <a:ext cx="323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D61897-F337-4E9C-9850-88774E94B96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Text Box 1"/>
          <p:cNvSpPr/>
          <p:nvPr/>
        </p:nvSpPr>
        <p:spPr>
          <a:xfrm>
            <a:off x="1311120" y="763560"/>
            <a:ext cx="502452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7860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94"/>
          <p:cNvSpPr/>
          <p:nvPr/>
        </p:nvSpPr>
        <p:spPr>
          <a:xfrm>
            <a:off x="4398840" y="9555120"/>
            <a:ext cx="323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688BB3-DB92-4F35-8F86-B21273C9EA3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 Box 1"/>
          <p:cNvSpPr/>
          <p:nvPr/>
        </p:nvSpPr>
        <p:spPr>
          <a:xfrm>
            <a:off x="1371600" y="763560"/>
            <a:ext cx="490392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7860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94"/>
          <p:cNvSpPr/>
          <p:nvPr/>
        </p:nvSpPr>
        <p:spPr>
          <a:xfrm>
            <a:off x="4398840" y="9555120"/>
            <a:ext cx="323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2A59B0-2EBF-43D2-833B-6FB6DF1601A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 Box 1"/>
          <p:cNvSpPr/>
          <p:nvPr/>
        </p:nvSpPr>
        <p:spPr>
          <a:xfrm>
            <a:off x="1371600" y="763560"/>
            <a:ext cx="490392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7860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94"/>
          <p:cNvSpPr/>
          <p:nvPr/>
        </p:nvSpPr>
        <p:spPr>
          <a:xfrm>
            <a:off x="4398840" y="9555120"/>
            <a:ext cx="323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23284C-85FF-4414-AE57-68A8C5D6FB7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Text Box 1"/>
          <p:cNvSpPr/>
          <p:nvPr/>
        </p:nvSpPr>
        <p:spPr>
          <a:xfrm>
            <a:off x="1371600" y="763560"/>
            <a:ext cx="490392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7860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94"/>
          <p:cNvSpPr/>
          <p:nvPr/>
        </p:nvSpPr>
        <p:spPr>
          <a:xfrm>
            <a:off x="4398840" y="9555120"/>
            <a:ext cx="323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D6775B-3DA4-427E-A341-0C254297FBA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Text Box 1"/>
          <p:cNvSpPr/>
          <p:nvPr/>
        </p:nvSpPr>
        <p:spPr>
          <a:xfrm>
            <a:off x="1371600" y="763560"/>
            <a:ext cx="490392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7860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94"/>
          <p:cNvSpPr/>
          <p:nvPr/>
        </p:nvSpPr>
        <p:spPr>
          <a:xfrm>
            <a:off x="4398840" y="9555120"/>
            <a:ext cx="323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F6AA00-43B3-4DB3-AA0E-68353976A15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 Box 1"/>
          <p:cNvSpPr/>
          <p:nvPr/>
        </p:nvSpPr>
        <p:spPr>
          <a:xfrm>
            <a:off x="1371600" y="763560"/>
            <a:ext cx="490392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7860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94"/>
          <p:cNvSpPr/>
          <p:nvPr/>
        </p:nvSpPr>
        <p:spPr>
          <a:xfrm>
            <a:off x="4398840" y="9555120"/>
            <a:ext cx="323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509FD5-BEAB-43A9-9630-5B16E616700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 Box 1"/>
          <p:cNvSpPr/>
          <p:nvPr/>
        </p:nvSpPr>
        <p:spPr>
          <a:xfrm>
            <a:off x="1311120" y="763560"/>
            <a:ext cx="502452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7860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94"/>
          <p:cNvSpPr/>
          <p:nvPr/>
        </p:nvSpPr>
        <p:spPr>
          <a:xfrm>
            <a:off x="4398840" y="9555120"/>
            <a:ext cx="323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3344F7-86E6-452E-B255-3D88049D95B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Text Box 1"/>
          <p:cNvSpPr/>
          <p:nvPr/>
        </p:nvSpPr>
        <p:spPr>
          <a:xfrm>
            <a:off x="1311120" y="763560"/>
            <a:ext cx="502452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body"/>
          </p:nvPr>
        </p:nvSpPr>
        <p:spPr>
          <a:xfrm>
            <a:off x="777600" y="4772160"/>
            <a:ext cx="6078600" cy="45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94"/>
          <p:cNvSpPr/>
          <p:nvPr/>
        </p:nvSpPr>
        <p:spPr>
          <a:xfrm>
            <a:off x="4398840" y="9555120"/>
            <a:ext cx="323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22D9BB-114A-403F-94B9-FD315F5F7FD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1"/>
          <p:cNvSpPr/>
          <p:nvPr/>
        </p:nvSpPr>
        <p:spPr>
          <a:xfrm>
            <a:off x="1371600" y="763560"/>
            <a:ext cx="490392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7860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94"/>
          <p:cNvSpPr/>
          <p:nvPr/>
        </p:nvSpPr>
        <p:spPr>
          <a:xfrm>
            <a:off x="4398840" y="9555120"/>
            <a:ext cx="323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92558F-3E8A-4F01-A7E3-E26F91C5CDF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ext Box 1"/>
          <p:cNvSpPr/>
          <p:nvPr/>
        </p:nvSpPr>
        <p:spPr>
          <a:xfrm>
            <a:off x="1371600" y="763560"/>
            <a:ext cx="4894200" cy="376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7860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94"/>
          <p:cNvSpPr/>
          <p:nvPr/>
        </p:nvSpPr>
        <p:spPr>
          <a:xfrm>
            <a:off x="4398840" y="9555120"/>
            <a:ext cx="323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FC99D4-408B-48D8-B206-46805375E6A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Text Box 1"/>
          <p:cNvSpPr/>
          <p:nvPr/>
        </p:nvSpPr>
        <p:spPr>
          <a:xfrm>
            <a:off x="1371600" y="763560"/>
            <a:ext cx="490392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7860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94"/>
          <p:cNvSpPr/>
          <p:nvPr/>
        </p:nvSpPr>
        <p:spPr>
          <a:xfrm>
            <a:off x="4398840" y="9555120"/>
            <a:ext cx="323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4DE80B-705F-4B06-9087-2C4E0388C5E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Text Box 1"/>
          <p:cNvSpPr/>
          <p:nvPr/>
        </p:nvSpPr>
        <p:spPr>
          <a:xfrm>
            <a:off x="1371600" y="763560"/>
            <a:ext cx="490392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7860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94"/>
          <p:cNvSpPr/>
          <p:nvPr/>
        </p:nvSpPr>
        <p:spPr>
          <a:xfrm>
            <a:off x="4398840" y="9555120"/>
            <a:ext cx="323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8BBB65-12E3-4903-9B76-71AC2811DC8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 Box 1"/>
          <p:cNvSpPr/>
          <p:nvPr/>
        </p:nvSpPr>
        <p:spPr>
          <a:xfrm>
            <a:off x="1371600" y="763560"/>
            <a:ext cx="490392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7860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94"/>
          <p:cNvSpPr/>
          <p:nvPr/>
        </p:nvSpPr>
        <p:spPr>
          <a:xfrm>
            <a:off x="4398840" y="9555120"/>
            <a:ext cx="323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D0C1DE-1F06-4F9E-8EC4-B613C7E80F2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1"/>
          <p:cNvSpPr/>
          <p:nvPr/>
        </p:nvSpPr>
        <p:spPr>
          <a:xfrm>
            <a:off x="1371600" y="763560"/>
            <a:ext cx="490392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7860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94"/>
          <p:cNvSpPr/>
          <p:nvPr/>
        </p:nvSpPr>
        <p:spPr>
          <a:xfrm>
            <a:off x="4398840" y="9555120"/>
            <a:ext cx="323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0D3338-1235-4E5F-BE96-28034A0BE06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1"/>
          <p:cNvSpPr/>
          <p:nvPr/>
        </p:nvSpPr>
        <p:spPr>
          <a:xfrm>
            <a:off x="1371600" y="763560"/>
            <a:ext cx="4892760" cy="376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7860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94"/>
          <p:cNvSpPr/>
          <p:nvPr/>
        </p:nvSpPr>
        <p:spPr>
          <a:xfrm>
            <a:off x="4398840" y="9555120"/>
            <a:ext cx="323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65DC08-E377-42B4-899D-593FB5EB18C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1"/>
          <p:cNvSpPr/>
          <p:nvPr/>
        </p:nvSpPr>
        <p:spPr>
          <a:xfrm>
            <a:off x="1311120" y="763560"/>
            <a:ext cx="502452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7860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94"/>
          <p:cNvSpPr/>
          <p:nvPr/>
        </p:nvSpPr>
        <p:spPr>
          <a:xfrm>
            <a:off x="4398840" y="9555120"/>
            <a:ext cx="323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635362-F552-4B93-9628-81404AC306B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Text Box 1"/>
          <p:cNvSpPr/>
          <p:nvPr/>
        </p:nvSpPr>
        <p:spPr>
          <a:xfrm>
            <a:off x="1311120" y="763560"/>
            <a:ext cx="502452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7860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94"/>
          <p:cNvSpPr/>
          <p:nvPr/>
        </p:nvSpPr>
        <p:spPr>
          <a:xfrm>
            <a:off x="4398840" y="9555120"/>
            <a:ext cx="323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E534BD-7BF6-4157-A5B9-ACBE72CEC2E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 Box 1"/>
          <p:cNvSpPr/>
          <p:nvPr/>
        </p:nvSpPr>
        <p:spPr>
          <a:xfrm>
            <a:off x="1311120" y="763560"/>
            <a:ext cx="502452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7860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79440" y="-41760"/>
            <a:ext cx="4741920" cy="9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52080" y="842760"/>
            <a:ext cx="4748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2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2080" y="2225160"/>
            <a:ext cx="4748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2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79440" y="-41760"/>
            <a:ext cx="4741920" cy="9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52080" y="842760"/>
            <a:ext cx="23169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2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785320" y="842760"/>
            <a:ext cx="23169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2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52080" y="2225160"/>
            <a:ext cx="23169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2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2785320" y="2225160"/>
            <a:ext cx="23169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2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79440" y="-41760"/>
            <a:ext cx="4741920" cy="9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52080" y="842760"/>
            <a:ext cx="15285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2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957320" y="842760"/>
            <a:ext cx="15285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2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562920" y="842760"/>
            <a:ext cx="15285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2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52080" y="2225160"/>
            <a:ext cx="15285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2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1957320" y="2225160"/>
            <a:ext cx="15285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2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3562920" y="2225160"/>
            <a:ext cx="15285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2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79440" y="-41760"/>
            <a:ext cx="4741920" cy="9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52080" y="842760"/>
            <a:ext cx="4748040" cy="264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79440" y="-41760"/>
            <a:ext cx="4741920" cy="9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52080" y="842760"/>
            <a:ext cx="4748040" cy="264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2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79440" y="-41760"/>
            <a:ext cx="4741920" cy="9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52080" y="842760"/>
            <a:ext cx="2316960" cy="264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2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2785320" y="842760"/>
            <a:ext cx="2316960" cy="264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2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79440" y="-41760"/>
            <a:ext cx="4741920" cy="9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79440" y="-41760"/>
            <a:ext cx="474192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72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79440" y="-41760"/>
            <a:ext cx="4741920" cy="9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52080" y="842760"/>
            <a:ext cx="23169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2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2785320" y="842760"/>
            <a:ext cx="2316960" cy="264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2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2080" y="2225160"/>
            <a:ext cx="23169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2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79440" y="-41760"/>
            <a:ext cx="4741920" cy="9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52080" y="842760"/>
            <a:ext cx="2316960" cy="264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2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2785320" y="842760"/>
            <a:ext cx="23169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2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785320" y="2225160"/>
            <a:ext cx="23169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2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79440" y="-41760"/>
            <a:ext cx="4741920" cy="9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52080" y="842760"/>
            <a:ext cx="23169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2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785320" y="842760"/>
            <a:ext cx="23169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2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52080" y="2225160"/>
            <a:ext cx="4748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2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0" y="3673440"/>
            <a:ext cx="4479840" cy="265320"/>
          </a:xfrm>
          <a:prstGeom prst="roundRect">
            <a:avLst>
              <a:gd name="adj" fmla="val 255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379440" y="3679920"/>
            <a:ext cx="2176560" cy="258840"/>
          </a:xfrm>
          <a:prstGeom prst="roundRect">
            <a:avLst>
              <a:gd name="adj" fmla="val 255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ONE LAPTOP PER CHIL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79440" y="-41760"/>
            <a:ext cx="4741920" cy="9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52080" y="842760"/>
            <a:ext cx="4748040" cy="264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1960" indent="-257040">
              <a:lnSpc>
                <a:spcPct val="72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72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55600" indent="-109440">
              <a:lnSpc>
                <a:spcPct val="72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96840">
              <a:lnSpc>
                <a:spcPct val="72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193680">
              <a:lnSpc>
                <a:spcPct val="72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193680">
              <a:lnSpc>
                <a:spcPct val="72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193680">
              <a:lnSpc>
                <a:spcPct val="72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297000" y="3940200"/>
            <a:ext cx="276084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This works are licensed under a Creative Commons Attribution 2.5 License. 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2"/>
          <a:stretch/>
        </p:blipFill>
        <p:spPr>
          <a:xfrm>
            <a:off x="4325760" y="3649680"/>
            <a:ext cx="1143000" cy="338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5.wmf"/><Relationship Id="rId14" Type="http://schemas.openxmlformats.org/officeDocument/2006/relationships/image" Target="../media/image7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79440" y="1609200"/>
            <a:ext cx="4819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One Laptop per Child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38" name="AutoShape 2"/>
          <p:cNvSpPr/>
          <p:nvPr/>
        </p:nvSpPr>
        <p:spPr>
          <a:xfrm>
            <a:off x="0" y="2895480"/>
            <a:ext cx="5486400" cy="762120"/>
          </a:xfrm>
          <a:prstGeom prst="roundRect">
            <a:avLst>
              <a:gd name="adj" fmla="val 17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untry Technical Sup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September 18, 2008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0" y="568440"/>
            <a:ext cx="5486400" cy="16732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4"/>
          <p:cNvSpPr/>
          <p:nvPr/>
        </p:nvSpPr>
        <p:spPr>
          <a:xfrm>
            <a:off x="1220760" y="1981080"/>
            <a:ext cx="30762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b3b3b3"/>
                </a:solidFill>
                <a:latin typeface="Arial"/>
              </a:rPr>
              <a:t>One Laptop per Chi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Connectivity/Collaboration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764240" cy="26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1960" indent="-257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nectivity with other XOs and Intern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mple mesh, up to 1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802.11b/g - via infrastructure access point, up to 20 X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th ejabberd on school server, 30-40 laptops per access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1960" indent="-257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llaboration, typical session &lt;1 hou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t, 30-40 laptops can share a c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rite, 2-3 laptops can collaborate on a Write docu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cord, 8-10 laptops can share Record photos (sharing video is not supported)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wse, 30-40 laptops can share Browse li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79440" y="90360"/>
            <a:ext cx="475776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8080"/>
                </a:solidFill>
                <a:latin typeface="Arial"/>
              </a:rPr>
              <a:t>Technology-Ongoing Phase</a:t>
            </a:r>
            <a:endParaRPr b="1" lang="en-US" sz="20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1960" indent="-257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ost-Installation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elp establish and train for local repair cen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vide contacts, process, pricing for ordering spare pa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vide appropriate sysadmin, teacher traini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55600" indent="-1094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nnectivity, Network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55600" indent="-1094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Upgrades, Backups, Power iss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55600" indent="-1094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evelopment, test and community gro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blem tracking 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scalation system for OLPC bu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79440" y="76320"/>
            <a:ext cx="47577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8080"/>
                </a:solidFill>
                <a:latin typeface="Arial"/>
              </a:rPr>
              <a:t>Escalation for problem tracking</a:t>
            </a:r>
            <a:endParaRPr b="1" lang="en-US" sz="1800" spc="-1" strike="noStrike">
              <a:solidFill>
                <a:srgbClr val="ff8080"/>
              </a:solidFill>
              <a:latin typeface="Arial"/>
            </a:endParaRPr>
          </a:p>
        </p:txBody>
      </p:sp>
      <p:grpSp>
        <p:nvGrpSpPr>
          <p:cNvPr id="273" name="Group 2"/>
          <p:cNvGrpSpPr/>
          <p:nvPr/>
        </p:nvGrpSpPr>
        <p:grpSpPr>
          <a:xfrm>
            <a:off x="1600200" y="1219320"/>
            <a:ext cx="1065240" cy="899640"/>
            <a:chOff x="1600200" y="1219320"/>
            <a:chExt cx="1065240" cy="899640"/>
          </a:xfrm>
        </p:grpSpPr>
        <p:sp>
          <p:nvSpPr>
            <p:cNvPr id="274" name="Rectangle 3"/>
            <p:cNvSpPr/>
            <p:nvPr/>
          </p:nvSpPr>
          <p:spPr>
            <a:xfrm>
              <a:off x="1600200" y="1219320"/>
              <a:ext cx="106524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Text Box 4"/>
            <p:cNvSpPr/>
            <p:nvPr/>
          </p:nvSpPr>
          <p:spPr>
            <a:xfrm>
              <a:off x="1600200" y="1294920"/>
              <a:ext cx="1065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FAQ</a:t>
              </a:r>
              <a:br>
                <a:rPr sz="1200"/>
              </a:b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Manuals</a:t>
              </a:r>
              <a:br>
                <a:rPr sz="1200"/>
              </a:b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Training Ma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6" name="Group 5"/>
          <p:cNvGrpSpPr/>
          <p:nvPr/>
        </p:nvGrpSpPr>
        <p:grpSpPr>
          <a:xfrm>
            <a:off x="1600200" y="2286000"/>
            <a:ext cx="1065240" cy="824040"/>
            <a:chOff x="1600200" y="2286000"/>
            <a:chExt cx="1065240" cy="824040"/>
          </a:xfrm>
        </p:grpSpPr>
        <p:sp>
          <p:nvSpPr>
            <p:cNvPr id="277" name="Rectangle 6"/>
            <p:cNvSpPr/>
            <p:nvPr/>
          </p:nvSpPr>
          <p:spPr>
            <a:xfrm>
              <a:off x="1600200" y="2361960"/>
              <a:ext cx="106524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Text Box 7"/>
            <p:cNvSpPr/>
            <p:nvPr/>
          </p:nvSpPr>
          <p:spPr>
            <a:xfrm>
              <a:off x="1600200" y="2286000"/>
              <a:ext cx="1065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roblem tracking syste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9" name="Group 8"/>
          <p:cNvGrpSpPr/>
          <p:nvPr/>
        </p:nvGrpSpPr>
        <p:grpSpPr>
          <a:xfrm>
            <a:off x="3962520" y="2666880"/>
            <a:ext cx="1065240" cy="824040"/>
            <a:chOff x="3962520" y="2666880"/>
            <a:chExt cx="1065240" cy="824040"/>
          </a:xfrm>
        </p:grpSpPr>
        <p:sp>
          <p:nvSpPr>
            <p:cNvPr id="280" name="Rectangle 9"/>
            <p:cNvSpPr/>
            <p:nvPr/>
          </p:nvSpPr>
          <p:spPr>
            <a:xfrm>
              <a:off x="3962520" y="2742840"/>
              <a:ext cx="1065240" cy="68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Text Box 10"/>
            <p:cNvSpPr/>
            <p:nvPr/>
          </p:nvSpPr>
          <p:spPr>
            <a:xfrm>
              <a:off x="3962520" y="2666880"/>
              <a:ext cx="1065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3333cc"/>
                  </a:solidFill>
                  <a:latin typeface="Arial"/>
                </a:rPr>
                <a:t>OLPC Problem Tracki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2" name="Text Box 11"/>
          <p:cNvSpPr/>
          <p:nvPr/>
        </p:nvSpPr>
        <p:spPr>
          <a:xfrm>
            <a:off x="152280" y="1752480"/>
            <a:ext cx="106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ach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m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ud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Line 12"/>
          <p:cNvSpPr/>
          <p:nvPr/>
        </p:nvSpPr>
        <p:spPr>
          <a:xfrm>
            <a:off x="2133720" y="3200400"/>
            <a:ext cx="18288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13"/>
          <p:cNvSpPr/>
          <p:nvPr/>
        </p:nvSpPr>
        <p:spPr>
          <a:xfrm>
            <a:off x="4038480" y="914400"/>
            <a:ext cx="11430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14"/>
          <p:cNvSpPr/>
          <p:nvPr/>
        </p:nvSpPr>
        <p:spPr>
          <a:xfrm>
            <a:off x="3962520" y="990720"/>
            <a:ext cx="1295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3333cc"/>
                </a:solidFill>
                <a:latin typeface="Arial"/>
              </a:rPr>
              <a:t>FAQ</a:t>
            </a:r>
            <a:br>
              <a:rPr sz="1200"/>
            </a:br>
            <a:r>
              <a:rPr b="0" lang="en-GB" sz="1200" spc="-1" strike="noStrike">
                <a:solidFill>
                  <a:srgbClr val="3333cc"/>
                </a:solidFill>
                <a:latin typeface="Arial"/>
              </a:rPr>
              <a:t>Wiki Doc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3333cc"/>
                </a:solidFill>
                <a:latin typeface="Arial"/>
              </a:rPr>
              <a:t>Release No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6" name="Group 15"/>
          <p:cNvGrpSpPr/>
          <p:nvPr/>
        </p:nvGrpSpPr>
        <p:grpSpPr>
          <a:xfrm>
            <a:off x="3505320" y="1828800"/>
            <a:ext cx="1217520" cy="684360"/>
            <a:chOff x="3505320" y="1828800"/>
            <a:chExt cx="1217520" cy="684360"/>
          </a:xfrm>
        </p:grpSpPr>
        <p:sp>
          <p:nvSpPr>
            <p:cNvPr id="287" name="Rectangle 16"/>
            <p:cNvSpPr/>
            <p:nvPr/>
          </p:nvSpPr>
          <p:spPr>
            <a:xfrm>
              <a:off x="3580920" y="1828800"/>
              <a:ext cx="1065600" cy="68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Text Box 17"/>
            <p:cNvSpPr/>
            <p:nvPr/>
          </p:nvSpPr>
          <p:spPr>
            <a:xfrm>
              <a:off x="3505320" y="1980720"/>
              <a:ext cx="121752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3333cc"/>
                  </a:solidFill>
                  <a:latin typeface="Arial"/>
                </a:rPr>
                <a:t>Tra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ts val="1074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000" spc="-1" strike="noStrike">
                  <a:solidFill>
                    <a:srgbClr val="3333cc"/>
                  </a:solidFill>
                  <a:latin typeface="Arial"/>
                </a:rPr>
                <a:t>(SW/HW bugs)</a:t>
              </a:r>
              <a:r>
                <a:rPr b="0" lang="en-GB" sz="1000" spc="-1" strike="noStrike">
                  <a:solidFill>
                    <a:srgbClr val="3333cc"/>
                  </a:solidFill>
                  <a:latin typeface="Arial"/>
                </a:rPr>
                <a:t>‏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9" name="Line 18"/>
          <p:cNvSpPr/>
          <p:nvPr/>
        </p:nvSpPr>
        <p:spPr>
          <a:xfrm flipV="1">
            <a:off x="2743200" y="1203480"/>
            <a:ext cx="1219320" cy="336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Line 19"/>
          <p:cNvSpPr/>
          <p:nvPr/>
        </p:nvSpPr>
        <p:spPr>
          <a:xfrm flipV="1">
            <a:off x="4267080" y="2498400"/>
            <a:ext cx="1800" cy="26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Line 20"/>
          <p:cNvSpPr/>
          <p:nvPr/>
        </p:nvSpPr>
        <p:spPr>
          <a:xfrm flipV="1">
            <a:off x="4876920" y="1584000"/>
            <a:ext cx="1440" cy="117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Line 21"/>
          <p:cNvSpPr/>
          <p:nvPr/>
        </p:nvSpPr>
        <p:spPr>
          <a:xfrm flipV="1">
            <a:off x="2133720" y="3031920"/>
            <a:ext cx="1440" cy="18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Line 22"/>
          <p:cNvSpPr/>
          <p:nvPr/>
        </p:nvSpPr>
        <p:spPr>
          <a:xfrm>
            <a:off x="3200400" y="914400"/>
            <a:ext cx="1440" cy="25146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Line 23"/>
          <p:cNvSpPr/>
          <p:nvPr/>
        </p:nvSpPr>
        <p:spPr>
          <a:xfrm>
            <a:off x="1066680" y="21337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 Box 24"/>
          <p:cNvSpPr/>
          <p:nvPr/>
        </p:nvSpPr>
        <p:spPr>
          <a:xfrm>
            <a:off x="1828800" y="3200400"/>
            <a:ext cx="137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0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scalation path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10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LPC Tech Suppor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25"/>
          <p:cNvSpPr/>
          <p:nvPr/>
        </p:nvSpPr>
        <p:spPr>
          <a:xfrm>
            <a:off x="3276720" y="838080"/>
            <a:ext cx="91440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463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3333cc"/>
                </a:solidFill>
                <a:latin typeface="Arial"/>
              </a:rPr>
              <a:t>OLP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26"/>
          <p:cNvSpPr/>
          <p:nvPr/>
        </p:nvSpPr>
        <p:spPr>
          <a:xfrm>
            <a:off x="2057400" y="838080"/>
            <a:ext cx="114300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463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untry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Line 27"/>
          <p:cNvSpPr/>
          <p:nvPr/>
        </p:nvSpPr>
        <p:spPr>
          <a:xfrm flipV="1">
            <a:off x="1066680" y="1507680"/>
            <a:ext cx="457200" cy="336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Line 28"/>
          <p:cNvSpPr/>
          <p:nvPr/>
        </p:nvSpPr>
        <p:spPr>
          <a:xfrm>
            <a:off x="2133720" y="190512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79440" y="76320"/>
            <a:ext cx="47577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Tech Support - Countries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76424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1960" indent="-257040">
              <a:lnSpc>
                <a:spcPct val="9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untry’s Role for Tech Sup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reate localized FAQ (based on OLPC FAQ)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reate Network/IT documentation for country specific n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ild a database for deployment and for problem trac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55600" indent="-109440">
              <a:lnSpc>
                <a:spcPct val="90000"/>
              </a:lnSpc>
              <a:spcAft>
                <a:spcPts val="624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rack which laptop goes to which scho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55600" indent="-109440">
              <a:lnSpc>
                <a:spcPct val="90000"/>
              </a:lnSpc>
              <a:spcAft>
                <a:spcPts val="624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rack laptops that have hw and sw probl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55600" indent="-109440">
              <a:lnSpc>
                <a:spcPct val="90000"/>
              </a:lnSpc>
              <a:spcAft>
                <a:spcPts val="624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Keep records of problems/resolutions to build knowledge 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vide local teachers/administrators with info on how to track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-Mail to OLPC for problems not resolved loc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79440" y="277920"/>
            <a:ext cx="475776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Tech Support - Countries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77640" y="914400"/>
            <a:ext cx="47638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1960" indent="-257040">
              <a:lnSpc>
                <a:spcPct val="9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LPC Role for Tech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vide repair center ideas, guidelines, troubleshooting manuals and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ncourage use of problem tickets, local help centers, FAQ, documentation of 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ncourage the use of volunteers and local open source development 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vide information on customizing activities and content; local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vide an Escalation path to OL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79440" y="-41400"/>
            <a:ext cx="475776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Hardware Support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52440" y="843120"/>
            <a:ext cx="4764240" cy="25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1960" indent="-257040">
              <a:lnSpc>
                <a:spcPct val="96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882720"/>
                <a:tab algn="l" pos="1339920"/>
                <a:tab algn="l" pos="1797120"/>
                <a:tab algn="l" pos="2254320"/>
                <a:tab algn="l" pos="2711520"/>
                <a:tab algn="l" pos="3168720"/>
                <a:tab algn="l" pos="3625920"/>
                <a:tab algn="l" pos="4083120"/>
                <a:tab algn="l" pos="4540320"/>
                <a:tab algn="l" pos="4997520"/>
                <a:tab algn="l" pos="5454720"/>
                <a:tab algn="l" pos="5911920"/>
                <a:tab algn="l" pos="6369120"/>
                <a:tab algn="l" pos="6826320"/>
                <a:tab algn="l" pos="7283520"/>
                <a:tab algn="l" pos="7740720"/>
                <a:tab algn="l" pos="8197920"/>
                <a:tab algn="l" pos="8655120"/>
                <a:tab algn="l" pos="9112320"/>
                <a:tab algn="l" pos="9115560"/>
                <a:tab algn="l" pos="9572760"/>
                <a:tab algn="l" pos="10029960"/>
                <a:tab algn="l" pos="1048716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96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5520"/>
                <a:tab algn="l" pos="882720"/>
                <a:tab algn="l" pos="1339920"/>
                <a:tab algn="l" pos="1797120"/>
                <a:tab algn="l" pos="2254320"/>
                <a:tab algn="l" pos="2711520"/>
                <a:tab algn="l" pos="3168720"/>
                <a:tab algn="l" pos="3625920"/>
                <a:tab algn="l" pos="4083120"/>
                <a:tab algn="l" pos="4540320"/>
                <a:tab algn="l" pos="4997520"/>
                <a:tab algn="l" pos="5454720"/>
                <a:tab algn="l" pos="5911920"/>
                <a:tab algn="l" pos="6369120"/>
                <a:tab algn="l" pos="6826320"/>
                <a:tab algn="l" pos="7283520"/>
                <a:tab algn="l" pos="7740720"/>
                <a:tab algn="l" pos="8197920"/>
                <a:tab algn="l" pos="8655120"/>
                <a:tab algn="l" pos="9112320"/>
                <a:tab algn="l" pos="9115560"/>
                <a:tab algn="l" pos="9572760"/>
                <a:tab algn="l" pos="10029960"/>
                <a:tab algn="l" pos="1048716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dditional 1% shipped at no charge to cover 90 day breakage warran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96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5520"/>
                <a:tab algn="l" pos="882720"/>
                <a:tab algn="l" pos="1339920"/>
                <a:tab algn="l" pos="1797120"/>
                <a:tab algn="l" pos="2254320"/>
                <a:tab algn="l" pos="2711520"/>
                <a:tab algn="l" pos="3168720"/>
                <a:tab algn="l" pos="3625920"/>
                <a:tab algn="l" pos="4083120"/>
                <a:tab algn="l" pos="4540320"/>
                <a:tab algn="l" pos="4997520"/>
                <a:tab algn="l" pos="5454720"/>
                <a:tab algn="l" pos="5911920"/>
                <a:tab algn="l" pos="6369120"/>
                <a:tab algn="l" pos="6826320"/>
                <a:tab algn="l" pos="7283520"/>
                <a:tab algn="l" pos="7740720"/>
                <a:tab algn="l" pos="8197920"/>
                <a:tab algn="l" pos="8655120"/>
                <a:tab algn="l" pos="9112320"/>
                <a:tab algn="l" pos="9115560"/>
                <a:tab algn="l" pos="9572760"/>
                <a:tab algn="l" pos="10029960"/>
                <a:tab algn="l" pos="1048716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se DOA (Dead on Arrival) XOs to seed spare parts for Repair Cen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57040">
              <a:lnSpc>
                <a:spcPct val="96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882720"/>
                <a:tab algn="l" pos="1339920"/>
                <a:tab algn="l" pos="1797120"/>
                <a:tab algn="l" pos="2254320"/>
                <a:tab algn="l" pos="2711520"/>
                <a:tab algn="l" pos="3168720"/>
                <a:tab algn="l" pos="3625920"/>
                <a:tab algn="l" pos="4083120"/>
                <a:tab algn="l" pos="4540320"/>
                <a:tab algn="l" pos="4997520"/>
                <a:tab algn="l" pos="5454720"/>
                <a:tab algn="l" pos="5911920"/>
                <a:tab algn="l" pos="6369120"/>
                <a:tab algn="l" pos="6826320"/>
                <a:tab algn="l" pos="7283520"/>
                <a:tab algn="l" pos="7740720"/>
                <a:tab algn="l" pos="8197920"/>
                <a:tab algn="l" pos="8655120"/>
                <a:tab algn="l" pos="9112320"/>
                <a:tab algn="l" pos="9115560"/>
                <a:tab algn="l" pos="9572760"/>
                <a:tab algn="l" pos="10029960"/>
                <a:tab algn="l" pos="1048716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sca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5520"/>
                <a:tab algn="l" pos="882720"/>
                <a:tab algn="l" pos="1339920"/>
                <a:tab algn="l" pos="1797120"/>
                <a:tab algn="l" pos="2254320"/>
                <a:tab algn="l" pos="2711520"/>
                <a:tab algn="l" pos="3168720"/>
                <a:tab algn="l" pos="3625920"/>
                <a:tab algn="l" pos="4083120"/>
                <a:tab algn="l" pos="4540320"/>
                <a:tab algn="l" pos="4997520"/>
                <a:tab algn="l" pos="5454720"/>
                <a:tab algn="l" pos="5911920"/>
                <a:tab algn="l" pos="6369120"/>
                <a:tab algn="l" pos="6826320"/>
                <a:tab algn="l" pos="7283520"/>
                <a:tab algn="l" pos="7740720"/>
                <a:tab algn="l" pos="8197920"/>
                <a:tab algn="l" pos="8655120"/>
                <a:tab algn="l" pos="9112320"/>
                <a:tab algn="l" pos="9115560"/>
                <a:tab algn="l" pos="9572760"/>
                <a:tab algn="l" pos="10029960"/>
                <a:tab algn="l" pos="1048716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tact OLPC if &gt;1% failure ra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55600" indent="-109440">
              <a:lnSpc>
                <a:spcPct val="96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882720"/>
                <a:tab algn="l" pos="1339920"/>
                <a:tab algn="l" pos="1797120"/>
                <a:tab algn="l" pos="2254320"/>
                <a:tab algn="l" pos="2711520"/>
                <a:tab algn="l" pos="3168720"/>
                <a:tab algn="l" pos="3625920"/>
                <a:tab algn="l" pos="4083120"/>
                <a:tab algn="l" pos="4540320"/>
                <a:tab algn="l" pos="4997520"/>
                <a:tab algn="l" pos="5454720"/>
                <a:tab algn="l" pos="5911920"/>
                <a:tab algn="l" pos="6369120"/>
                <a:tab algn="l" pos="6826320"/>
                <a:tab algn="l" pos="7283520"/>
                <a:tab algn="l" pos="7740720"/>
                <a:tab algn="l" pos="8197920"/>
                <a:tab algn="l" pos="8655120"/>
                <a:tab algn="l" pos="9112320"/>
                <a:tab algn="l" pos="9115560"/>
                <a:tab algn="l" pos="9572760"/>
                <a:tab algn="l" pos="10029960"/>
                <a:tab algn="l" pos="1048716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.e. previous batteries that did not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Hardware Support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4764240" cy="26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1960" indent="-2570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pai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LPC supplies troubleshooting documentation (English)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55600" indent="-1094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ccff"/>
                </a:solidFill>
                <a:latin typeface="Arial"/>
              </a:rPr>
              <a:t>http://wiki.laptop.org/go/XO_Troubleshooting_Gu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untry supplies local repair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55600" indent="-1094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udent Wo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55600" indent="-1094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olunte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55600" indent="-1094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courage Small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1960" indent="-257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are P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rge Deployments: &gt;10,000 XOs direct contact with manufacturer, i.e. batteries, displays, etc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maller Deployments: work with OLPC/Brightstar for o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Software Support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4764240" cy="249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1960" indent="-2570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pen source 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ows/encourages contributions from many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proprietary or licensing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formal support pro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ccff"/>
                </a:solidFill>
                <a:latin typeface="Arial"/>
              </a:rPr>
              <a:t>http://lists.laptop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ccff"/>
                </a:solidFill>
                <a:latin typeface="Arial"/>
              </a:rPr>
              <a:t>http://wiki.laptop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79440" y="2880"/>
            <a:ext cx="4757760" cy="83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Software Support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52440" y="843120"/>
            <a:ext cx="4764240" cy="25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1960" indent="-257040">
              <a:lnSpc>
                <a:spcPct val="86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LPC rele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86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rget of 2 major releases per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55600" indent="-109440">
              <a:lnSpc>
                <a:spcPct val="86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tinue improvements in security, power management, collaboration, upgrad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86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nor or patch rel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55600" indent="-109440">
              <a:lnSpc>
                <a:spcPct val="86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dress urgent security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55600" indent="-109440">
              <a:lnSpc>
                <a:spcPct val="86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ritical bugs, Language/keyboard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86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st Activities are developed outside of OL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86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ccff"/>
                </a:solidFill>
                <a:latin typeface="Arial"/>
              </a:rPr>
              <a:t>http://wiki.laptop.org/go/Rel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6000"/>
              </a:lnSpc>
              <a:spcBef>
                <a:spcPts val="3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79080" y="2880"/>
            <a:ext cx="47480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Questions?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52080" y="842760"/>
            <a:ext cx="4754520" cy="25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1960" indent="-25704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act me: reuben@laptop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5704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ntry Team Contact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75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lpc-techsupport@laptop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475776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Planning for Deployments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52440" y="1058760"/>
            <a:ext cx="4764240" cy="25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1960" indent="-257040">
              <a:lnSpc>
                <a:spcPct val="96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anning in adv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96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stablish Country Te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96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maging and Choosing Cont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96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otocol for End User Suppo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57040">
              <a:lnSpc>
                <a:spcPct val="92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ployment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92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ccccff"/>
                </a:solidFill>
                <a:latin typeface="Arial"/>
              </a:rPr>
              <a:t>http://wiki.laptop.org/go/Deployment_Gu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79440" y="90360"/>
            <a:ext cx="475776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8080"/>
                </a:solidFill>
                <a:latin typeface="Arial"/>
              </a:rPr>
              <a:t>Technology-Planning Phase</a:t>
            </a:r>
            <a:endParaRPr b="1" lang="en-US" sz="20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1960" indent="-257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tivities and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hoose and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rans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anguage and Keybo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5704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hat is available in Scho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quipment for Charg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79440" y="90360"/>
            <a:ext cx="475776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8080"/>
                </a:solidFill>
                <a:latin typeface="Arial"/>
              </a:rPr>
              <a:t>Technology Roll-out Phase</a:t>
            </a:r>
            <a:endParaRPr b="1" lang="en-US" sz="20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1960" indent="-257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stallation and Upg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e ready to upgrade and image all X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SB Upgr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5704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an for upgrades after deplo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chool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SB Dr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Security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1960" indent="-2570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e-Activated Laptop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o keys required, no proces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rrive in default condition; countries must specify need for Anti-th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960" indent="-2570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n-Activated Laptops: Anti-theft in Deliv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commended for &gt;5000 lapto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ctivation keys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ployment tech contacts must obtain activation keys and learn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mportant planning required at warehouse and at activation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79080" y="2880"/>
            <a:ext cx="474660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Connectivity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52080" y="842760"/>
            <a:ext cx="4753080" cy="25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1960" indent="-257040">
              <a:lnSpc>
                <a:spcPct val="78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78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frastructure: Wired/Wirel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78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F E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78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cale: Number of XOs in class and sch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1120" y="192240"/>
            <a:ext cx="4664160" cy="4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XO under a tree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2971800" y="914400"/>
            <a:ext cx="1325520" cy="1646280"/>
          </a:xfrm>
          <a:prstGeom prst="rect">
            <a:avLst/>
          </a:prstGeom>
          <a:ln w="0">
            <a:noFill/>
          </a:ln>
        </p:spPr>
      </p:pic>
      <p:grpSp>
        <p:nvGrpSpPr>
          <p:cNvPr id="153" name="Group 3"/>
          <p:cNvGrpSpPr/>
          <p:nvPr/>
        </p:nvGrpSpPr>
        <p:grpSpPr>
          <a:xfrm>
            <a:off x="4024440" y="1828800"/>
            <a:ext cx="593280" cy="563400"/>
            <a:chOff x="4024440" y="1828800"/>
            <a:chExt cx="593280" cy="563400"/>
          </a:xfrm>
        </p:grpSpPr>
        <p:pic>
          <p:nvPicPr>
            <p:cNvPr id="154" name="Picture 4" descr=""/>
            <p:cNvPicPr/>
            <p:nvPr/>
          </p:nvPicPr>
          <p:blipFill>
            <a:blip r:embed="rId2"/>
            <a:stretch/>
          </p:blipFill>
          <p:spPr>
            <a:xfrm>
              <a:off x="4024440" y="1828800"/>
              <a:ext cx="592200" cy="56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Rectangle 5"/>
            <p:cNvSpPr/>
            <p:nvPr/>
          </p:nvSpPr>
          <p:spPr>
            <a:xfrm>
              <a:off x="4469400" y="2084760"/>
              <a:ext cx="148320" cy="14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6" name="Group 6"/>
          <p:cNvGrpSpPr/>
          <p:nvPr/>
        </p:nvGrpSpPr>
        <p:grpSpPr>
          <a:xfrm>
            <a:off x="304920" y="1905120"/>
            <a:ext cx="593640" cy="563400"/>
            <a:chOff x="304920" y="1905120"/>
            <a:chExt cx="593640" cy="563400"/>
          </a:xfrm>
        </p:grpSpPr>
        <p:pic>
          <p:nvPicPr>
            <p:cNvPr id="157" name="Picture 7" descr=""/>
            <p:cNvPicPr/>
            <p:nvPr/>
          </p:nvPicPr>
          <p:blipFill>
            <a:blip r:embed="rId3"/>
            <a:stretch/>
          </p:blipFill>
          <p:spPr>
            <a:xfrm>
              <a:off x="304920" y="1905120"/>
              <a:ext cx="593640" cy="56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Rectangle 8"/>
            <p:cNvSpPr/>
            <p:nvPr/>
          </p:nvSpPr>
          <p:spPr>
            <a:xfrm>
              <a:off x="749880" y="2161080"/>
              <a:ext cx="148320" cy="14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9" name="Group 9"/>
          <p:cNvGrpSpPr/>
          <p:nvPr/>
        </p:nvGrpSpPr>
        <p:grpSpPr>
          <a:xfrm>
            <a:off x="1828800" y="1949400"/>
            <a:ext cx="592200" cy="563760"/>
            <a:chOff x="1828800" y="1949400"/>
            <a:chExt cx="592200" cy="563760"/>
          </a:xfrm>
        </p:grpSpPr>
        <p:pic>
          <p:nvPicPr>
            <p:cNvPr id="160" name="Picture 10" descr=""/>
            <p:cNvPicPr/>
            <p:nvPr/>
          </p:nvPicPr>
          <p:blipFill>
            <a:blip r:embed="rId4"/>
            <a:stretch/>
          </p:blipFill>
          <p:spPr>
            <a:xfrm>
              <a:off x="1828800" y="1949400"/>
              <a:ext cx="592200" cy="56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Rectangle 11"/>
            <p:cNvSpPr/>
            <p:nvPr/>
          </p:nvSpPr>
          <p:spPr>
            <a:xfrm>
              <a:off x="2272320" y="2206080"/>
              <a:ext cx="148320" cy="14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2" name="Group 12"/>
          <p:cNvGrpSpPr/>
          <p:nvPr/>
        </p:nvGrpSpPr>
        <p:grpSpPr>
          <a:xfrm>
            <a:off x="3932280" y="2468520"/>
            <a:ext cx="593280" cy="563760"/>
            <a:chOff x="3932280" y="2468520"/>
            <a:chExt cx="593280" cy="563760"/>
          </a:xfrm>
        </p:grpSpPr>
        <p:pic>
          <p:nvPicPr>
            <p:cNvPr id="163" name="Picture 13" descr=""/>
            <p:cNvPicPr/>
            <p:nvPr/>
          </p:nvPicPr>
          <p:blipFill>
            <a:blip r:embed="rId5"/>
            <a:stretch/>
          </p:blipFill>
          <p:spPr>
            <a:xfrm>
              <a:off x="3932280" y="2468520"/>
              <a:ext cx="591840" cy="56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Rectangle 14"/>
            <p:cNvSpPr/>
            <p:nvPr/>
          </p:nvSpPr>
          <p:spPr>
            <a:xfrm>
              <a:off x="4376880" y="2724840"/>
              <a:ext cx="148680" cy="14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5" name="Group 15"/>
          <p:cNvGrpSpPr/>
          <p:nvPr/>
        </p:nvGrpSpPr>
        <p:grpSpPr>
          <a:xfrm>
            <a:off x="3246480" y="2606760"/>
            <a:ext cx="593280" cy="563400"/>
            <a:chOff x="3246480" y="2606760"/>
            <a:chExt cx="593280" cy="563400"/>
          </a:xfrm>
        </p:grpSpPr>
        <p:pic>
          <p:nvPicPr>
            <p:cNvPr id="166" name="Picture 16" descr=""/>
            <p:cNvPicPr/>
            <p:nvPr/>
          </p:nvPicPr>
          <p:blipFill>
            <a:blip r:embed="rId6"/>
            <a:stretch/>
          </p:blipFill>
          <p:spPr>
            <a:xfrm>
              <a:off x="3246480" y="2606760"/>
              <a:ext cx="591840" cy="56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Rectangle 17"/>
            <p:cNvSpPr/>
            <p:nvPr/>
          </p:nvSpPr>
          <p:spPr>
            <a:xfrm>
              <a:off x="3691080" y="2862720"/>
              <a:ext cx="148680" cy="14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8" name="Group 18"/>
          <p:cNvGrpSpPr/>
          <p:nvPr/>
        </p:nvGrpSpPr>
        <p:grpSpPr>
          <a:xfrm>
            <a:off x="4525920" y="2103480"/>
            <a:ext cx="593640" cy="563400"/>
            <a:chOff x="4525920" y="2103480"/>
            <a:chExt cx="593640" cy="563400"/>
          </a:xfrm>
        </p:grpSpPr>
        <p:pic>
          <p:nvPicPr>
            <p:cNvPr id="169" name="Picture 19" descr=""/>
            <p:cNvPicPr/>
            <p:nvPr/>
          </p:nvPicPr>
          <p:blipFill>
            <a:blip r:embed="rId7"/>
            <a:stretch/>
          </p:blipFill>
          <p:spPr>
            <a:xfrm>
              <a:off x="4525920" y="2103480"/>
              <a:ext cx="593640" cy="56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Rectangle 20"/>
            <p:cNvSpPr/>
            <p:nvPr/>
          </p:nvSpPr>
          <p:spPr>
            <a:xfrm>
              <a:off x="4970520" y="2359440"/>
              <a:ext cx="148680" cy="14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1" name="Text Box 21"/>
          <p:cNvSpPr/>
          <p:nvPr/>
        </p:nvSpPr>
        <p:spPr>
          <a:xfrm>
            <a:off x="457200" y="914400"/>
            <a:ext cx="182880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54720" tIns="27360" bIns="2736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Up to 10 laptops per mesh channel (3 channels) can collaborate with no wireless infrastructure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22"/>
          <p:cNvSpPr/>
          <p:nvPr/>
        </p:nvSpPr>
        <p:spPr>
          <a:xfrm>
            <a:off x="990720" y="2209680"/>
            <a:ext cx="685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23"/>
          <p:cNvSpPr/>
          <p:nvPr/>
        </p:nvSpPr>
        <p:spPr>
          <a:xfrm>
            <a:off x="2514600" y="22860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11120" y="200160"/>
            <a:ext cx="4664160" cy="4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XO with AP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914400" y="2057400"/>
            <a:ext cx="1050840" cy="7873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"/>
          <p:cNvPicPr/>
          <p:nvPr/>
        </p:nvPicPr>
        <p:blipFill>
          <a:blip r:embed="rId2"/>
          <a:stretch/>
        </p:blipFill>
        <p:spPr>
          <a:xfrm>
            <a:off x="2201760" y="2384280"/>
            <a:ext cx="335160" cy="35892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4"/>
          <p:cNvSpPr/>
          <p:nvPr/>
        </p:nvSpPr>
        <p:spPr>
          <a:xfrm>
            <a:off x="2430360" y="2384280"/>
            <a:ext cx="549360" cy="1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54720" tIns="27360" bIns="2736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AP/Router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2057760" y="2743200"/>
            <a:ext cx="262440" cy="1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CH1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6"/>
          <p:cNvSpPr/>
          <p:nvPr/>
        </p:nvSpPr>
        <p:spPr>
          <a:xfrm flipH="1" flipV="1">
            <a:off x="1820880" y="2550600"/>
            <a:ext cx="396720" cy="7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0" name="Group 7"/>
          <p:cNvGrpSpPr/>
          <p:nvPr/>
        </p:nvGrpSpPr>
        <p:grpSpPr>
          <a:xfrm>
            <a:off x="3521160" y="914400"/>
            <a:ext cx="1506240" cy="563400"/>
            <a:chOff x="3521160" y="914400"/>
            <a:chExt cx="1506240" cy="563400"/>
          </a:xfrm>
        </p:grpSpPr>
        <p:grpSp>
          <p:nvGrpSpPr>
            <p:cNvPr id="181" name="Group 8"/>
            <p:cNvGrpSpPr/>
            <p:nvPr/>
          </p:nvGrpSpPr>
          <p:grpSpPr>
            <a:xfrm>
              <a:off x="3521160" y="914400"/>
              <a:ext cx="592200" cy="563400"/>
              <a:chOff x="3521160" y="914400"/>
              <a:chExt cx="592200" cy="563400"/>
            </a:xfrm>
          </p:grpSpPr>
          <p:pic>
            <p:nvPicPr>
              <p:cNvPr id="182" name="Picture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521160" y="914400"/>
                <a:ext cx="592200" cy="56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" name="Rectangle 10"/>
              <p:cNvSpPr/>
              <p:nvPr/>
            </p:nvSpPr>
            <p:spPr>
              <a:xfrm>
                <a:off x="3964320" y="1170360"/>
                <a:ext cx="148680" cy="14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4" name="Group 11"/>
            <p:cNvGrpSpPr/>
            <p:nvPr/>
          </p:nvGrpSpPr>
          <p:grpSpPr>
            <a:xfrm>
              <a:off x="3978360" y="914400"/>
              <a:ext cx="592200" cy="563400"/>
              <a:chOff x="3978360" y="914400"/>
              <a:chExt cx="592200" cy="563400"/>
            </a:xfrm>
          </p:grpSpPr>
          <p:pic>
            <p:nvPicPr>
              <p:cNvPr id="185" name="Pictu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3978360" y="914400"/>
                <a:ext cx="592200" cy="56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" name="Rectangle 13"/>
              <p:cNvSpPr/>
              <p:nvPr/>
            </p:nvSpPr>
            <p:spPr>
              <a:xfrm>
                <a:off x="4421520" y="1170360"/>
                <a:ext cx="148680" cy="14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7" name="Group 14"/>
            <p:cNvGrpSpPr/>
            <p:nvPr/>
          </p:nvGrpSpPr>
          <p:grpSpPr>
            <a:xfrm>
              <a:off x="4433760" y="914400"/>
              <a:ext cx="593640" cy="563400"/>
              <a:chOff x="4433760" y="914400"/>
              <a:chExt cx="593640" cy="563400"/>
            </a:xfrm>
          </p:grpSpPr>
          <p:pic>
            <p:nvPicPr>
              <p:cNvPr id="188" name="Picture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4433760" y="914400"/>
                <a:ext cx="592560" cy="56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Rectangle 16"/>
              <p:cNvSpPr/>
              <p:nvPr/>
            </p:nvSpPr>
            <p:spPr>
              <a:xfrm>
                <a:off x="4878720" y="1170360"/>
                <a:ext cx="148680" cy="14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17"/>
          <p:cNvGrpSpPr/>
          <p:nvPr/>
        </p:nvGrpSpPr>
        <p:grpSpPr>
          <a:xfrm>
            <a:off x="3490920" y="1477800"/>
            <a:ext cx="1506600" cy="563760"/>
            <a:chOff x="3490920" y="1477800"/>
            <a:chExt cx="1506600" cy="563760"/>
          </a:xfrm>
        </p:grpSpPr>
        <p:grpSp>
          <p:nvGrpSpPr>
            <p:cNvPr id="191" name="Group 18"/>
            <p:cNvGrpSpPr/>
            <p:nvPr/>
          </p:nvGrpSpPr>
          <p:grpSpPr>
            <a:xfrm>
              <a:off x="3490920" y="1477800"/>
              <a:ext cx="593280" cy="563760"/>
              <a:chOff x="3490920" y="1477800"/>
              <a:chExt cx="593280" cy="563760"/>
            </a:xfrm>
          </p:grpSpPr>
          <p:pic>
            <p:nvPicPr>
              <p:cNvPr id="192" name="Picture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3490920" y="1477800"/>
                <a:ext cx="591840" cy="56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" name="Rectangle 20"/>
              <p:cNvSpPr/>
              <p:nvPr/>
            </p:nvSpPr>
            <p:spPr>
              <a:xfrm>
                <a:off x="3935520" y="1734480"/>
                <a:ext cx="148680" cy="14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21"/>
            <p:cNvGrpSpPr/>
            <p:nvPr/>
          </p:nvGrpSpPr>
          <p:grpSpPr>
            <a:xfrm>
              <a:off x="3948120" y="1477800"/>
              <a:ext cx="592200" cy="563760"/>
              <a:chOff x="3948120" y="1477800"/>
              <a:chExt cx="592200" cy="563760"/>
            </a:xfrm>
          </p:grpSpPr>
          <p:pic>
            <p:nvPicPr>
              <p:cNvPr id="195" name="Picture 22" descr=""/>
              <p:cNvPicPr/>
              <p:nvPr/>
            </p:nvPicPr>
            <p:blipFill>
              <a:blip r:embed="rId7"/>
              <a:stretch/>
            </p:blipFill>
            <p:spPr>
              <a:xfrm>
                <a:off x="3948120" y="1477800"/>
                <a:ext cx="592200" cy="56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6" name="Rectangle 23"/>
              <p:cNvSpPr/>
              <p:nvPr/>
            </p:nvSpPr>
            <p:spPr>
              <a:xfrm>
                <a:off x="4391640" y="1734480"/>
                <a:ext cx="148320" cy="14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7" name="Group 24"/>
            <p:cNvGrpSpPr/>
            <p:nvPr/>
          </p:nvGrpSpPr>
          <p:grpSpPr>
            <a:xfrm>
              <a:off x="4405320" y="1477800"/>
              <a:ext cx="592200" cy="563760"/>
              <a:chOff x="4405320" y="1477800"/>
              <a:chExt cx="592200" cy="563760"/>
            </a:xfrm>
          </p:grpSpPr>
          <p:pic>
            <p:nvPicPr>
              <p:cNvPr id="198" name="Picture 25" descr=""/>
              <p:cNvPicPr/>
              <p:nvPr/>
            </p:nvPicPr>
            <p:blipFill>
              <a:blip r:embed="rId8"/>
              <a:stretch/>
            </p:blipFill>
            <p:spPr>
              <a:xfrm>
                <a:off x="4405320" y="1477800"/>
                <a:ext cx="592200" cy="56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" name="Rectangle 26"/>
              <p:cNvSpPr/>
              <p:nvPr/>
            </p:nvSpPr>
            <p:spPr>
              <a:xfrm>
                <a:off x="4848840" y="1734480"/>
                <a:ext cx="148320" cy="14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00" name="Group 27"/>
          <p:cNvGrpSpPr/>
          <p:nvPr/>
        </p:nvGrpSpPr>
        <p:grpSpPr>
          <a:xfrm>
            <a:off x="3124080" y="1981080"/>
            <a:ext cx="1508400" cy="563760"/>
            <a:chOff x="3124080" y="1981080"/>
            <a:chExt cx="1508400" cy="563760"/>
          </a:xfrm>
        </p:grpSpPr>
        <p:grpSp>
          <p:nvGrpSpPr>
            <p:cNvPr id="201" name="Group 28"/>
            <p:cNvGrpSpPr/>
            <p:nvPr/>
          </p:nvGrpSpPr>
          <p:grpSpPr>
            <a:xfrm>
              <a:off x="3124080" y="1981080"/>
              <a:ext cx="594000" cy="563760"/>
              <a:chOff x="3124080" y="1981080"/>
              <a:chExt cx="594000" cy="563760"/>
            </a:xfrm>
          </p:grpSpPr>
          <p:pic>
            <p:nvPicPr>
              <p:cNvPr id="202" name="Picture 29" descr=""/>
              <p:cNvPicPr/>
              <p:nvPr/>
            </p:nvPicPr>
            <p:blipFill>
              <a:blip r:embed="rId9"/>
              <a:stretch/>
            </p:blipFill>
            <p:spPr>
              <a:xfrm>
                <a:off x="3124080" y="1981080"/>
                <a:ext cx="594000" cy="56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Rectangle 30"/>
              <p:cNvSpPr/>
              <p:nvPr/>
            </p:nvSpPr>
            <p:spPr>
              <a:xfrm>
                <a:off x="3569040" y="2237760"/>
                <a:ext cx="148680" cy="14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4" name="Group 31"/>
            <p:cNvGrpSpPr/>
            <p:nvPr/>
          </p:nvGrpSpPr>
          <p:grpSpPr>
            <a:xfrm>
              <a:off x="3581280" y="1981080"/>
              <a:ext cx="594000" cy="563760"/>
              <a:chOff x="3581280" y="1981080"/>
              <a:chExt cx="594000" cy="563760"/>
            </a:xfrm>
          </p:grpSpPr>
          <p:pic>
            <p:nvPicPr>
              <p:cNvPr id="205" name="Picture 32" descr=""/>
              <p:cNvPicPr/>
              <p:nvPr/>
            </p:nvPicPr>
            <p:blipFill>
              <a:blip r:embed="rId10"/>
              <a:stretch/>
            </p:blipFill>
            <p:spPr>
              <a:xfrm>
                <a:off x="3581280" y="1981080"/>
                <a:ext cx="594000" cy="56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6" name="Rectangle 33"/>
              <p:cNvSpPr/>
              <p:nvPr/>
            </p:nvSpPr>
            <p:spPr>
              <a:xfrm>
                <a:off x="4026240" y="2237760"/>
                <a:ext cx="148680" cy="14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Group 34"/>
            <p:cNvGrpSpPr/>
            <p:nvPr/>
          </p:nvGrpSpPr>
          <p:grpSpPr>
            <a:xfrm>
              <a:off x="4038480" y="1981080"/>
              <a:ext cx="594000" cy="563760"/>
              <a:chOff x="4038480" y="1981080"/>
              <a:chExt cx="594000" cy="563760"/>
            </a:xfrm>
          </p:grpSpPr>
          <p:pic>
            <p:nvPicPr>
              <p:cNvPr id="208" name="Picture 35" descr=""/>
              <p:cNvPicPr/>
              <p:nvPr/>
            </p:nvPicPr>
            <p:blipFill>
              <a:blip r:embed="rId11"/>
              <a:stretch/>
            </p:blipFill>
            <p:spPr>
              <a:xfrm>
                <a:off x="4038480" y="1981080"/>
                <a:ext cx="594000" cy="56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" name="Rectangle 36"/>
              <p:cNvSpPr/>
              <p:nvPr/>
            </p:nvSpPr>
            <p:spPr>
              <a:xfrm>
                <a:off x="4483440" y="2237760"/>
                <a:ext cx="148680" cy="14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0" name="Text Box 37"/>
          <p:cNvSpPr/>
          <p:nvPr/>
        </p:nvSpPr>
        <p:spPr>
          <a:xfrm>
            <a:off x="0" y="914400"/>
            <a:ext cx="36576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54720" tIns="27360" bIns="2736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Up to 20 Laptops / Access Poin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More than 60 laptops and 3 Access Points requires site survey and carefully designed infrastructure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XO with XS Server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212" name="Text Box 2"/>
          <p:cNvSpPr/>
          <p:nvPr/>
        </p:nvSpPr>
        <p:spPr>
          <a:xfrm>
            <a:off x="1568520" y="2179800"/>
            <a:ext cx="777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54720" tIns="27360" bIns="2736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XS</a:t>
            </a:r>
            <a:br>
              <a:rPr sz="700"/>
            </a:b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School Server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Line 3"/>
          <p:cNvSpPr/>
          <p:nvPr/>
        </p:nvSpPr>
        <p:spPr>
          <a:xfrm flipH="1" flipV="1">
            <a:off x="1369800" y="1157040"/>
            <a:ext cx="169560" cy="26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4" name="Group 4"/>
          <p:cNvGrpSpPr/>
          <p:nvPr/>
        </p:nvGrpSpPr>
        <p:grpSpPr>
          <a:xfrm>
            <a:off x="1143000" y="2743200"/>
            <a:ext cx="1508040" cy="561960"/>
            <a:chOff x="1143000" y="2743200"/>
            <a:chExt cx="1508040" cy="561960"/>
          </a:xfrm>
        </p:grpSpPr>
        <p:grpSp>
          <p:nvGrpSpPr>
            <p:cNvPr id="215" name="Group 5"/>
            <p:cNvGrpSpPr/>
            <p:nvPr/>
          </p:nvGrpSpPr>
          <p:grpSpPr>
            <a:xfrm>
              <a:off x="1143000" y="2743200"/>
              <a:ext cx="593640" cy="561960"/>
              <a:chOff x="1143000" y="2743200"/>
              <a:chExt cx="593640" cy="561960"/>
            </a:xfrm>
          </p:grpSpPr>
          <p:pic>
            <p:nvPicPr>
              <p:cNvPr id="216" name="Pictur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1143000" y="2743200"/>
                <a:ext cx="593640" cy="56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7" name="Rectangle 7"/>
              <p:cNvSpPr/>
              <p:nvPr/>
            </p:nvSpPr>
            <p:spPr>
              <a:xfrm>
                <a:off x="1587600" y="2999520"/>
                <a:ext cx="148680" cy="14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8" name="Group 8"/>
            <p:cNvGrpSpPr/>
            <p:nvPr/>
          </p:nvGrpSpPr>
          <p:grpSpPr>
            <a:xfrm>
              <a:off x="1600200" y="2743200"/>
              <a:ext cx="593640" cy="561960"/>
              <a:chOff x="1600200" y="2743200"/>
              <a:chExt cx="593640" cy="561960"/>
            </a:xfrm>
          </p:grpSpPr>
          <p:pic>
            <p:nvPicPr>
              <p:cNvPr id="219" name="Picture 9" descr=""/>
              <p:cNvPicPr/>
              <p:nvPr/>
            </p:nvPicPr>
            <p:blipFill>
              <a:blip r:embed="rId2"/>
              <a:stretch/>
            </p:blipFill>
            <p:spPr>
              <a:xfrm>
                <a:off x="1600200" y="2743200"/>
                <a:ext cx="593640" cy="56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0" name="Rectangle 10"/>
              <p:cNvSpPr/>
              <p:nvPr/>
            </p:nvSpPr>
            <p:spPr>
              <a:xfrm>
                <a:off x="2044800" y="2999520"/>
                <a:ext cx="148680" cy="14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1" name="Group 11"/>
            <p:cNvGrpSpPr/>
            <p:nvPr/>
          </p:nvGrpSpPr>
          <p:grpSpPr>
            <a:xfrm>
              <a:off x="2057400" y="2743200"/>
              <a:ext cx="593640" cy="561960"/>
              <a:chOff x="2057400" y="2743200"/>
              <a:chExt cx="593640" cy="561960"/>
            </a:xfrm>
          </p:grpSpPr>
          <p:pic>
            <p:nvPicPr>
              <p:cNvPr id="222" name="Pictur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2057400" y="2743200"/>
                <a:ext cx="593640" cy="56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3" name="Rectangle 13"/>
              <p:cNvSpPr/>
              <p:nvPr/>
            </p:nvSpPr>
            <p:spPr>
              <a:xfrm>
                <a:off x="2502000" y="2999520"/>
                <a:ext cx="148680" cy="14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24" name="Group 14"/>
          <p:cNvGrpSpPr/>
          <p:nvPr/>
        </p:nvGrpSpPr>
        <p:grpSpPr>
          <a:xfrm>
            <a:off x="3549600" y="1630440"/>
            <a:ext cx="1508040" cy="563400"/>
            <a:chOff x="3549600" y="1630440"/>
            <a:chExt cx="1508040" cy="563400"/>
          </a:xfrm>
        </p:grpSpPr>
        <p:grpSp>
          <p:nvGrpSpPr>
            <p:cNvPr id="225" name="Group 15"/>
            <p:cNvGrpSpPr/>
            <p:nvPr/>
          </p:nvGrpSpPr>
          <p:grpSpPr>
            <a:xfrm>
              <a:off x="3549600" y="1630440"/>
              <a:ext cx="593640" cy="563400"/>
              <a:chOff x="3549600" y="1630440"/>
              <a:chExt cx="593640" cy="563400"/>
            </a:xfrm>
          </p:grpSpPr>
          <p:pic>
            <p:nvPicPr>
              <p:cNvPr id="226" name="Picture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3549600" y="1630440"/>
                <a:ext cx="593640" cy="56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7" name="Rectangle 17"/>
              <p:cNvSpPr/>
              <p:nvPr/>
            </p:nvSpPr>
            <p:spPr>
              <a:xfrm>
                <a:off x="3994200" y="1886400"/>
                <a:ext cx="148680" cy="14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8" name="Group 18"/>
            <p:cNvGrpSpPr/>
            <p:nvPr/>
          </p:nvGrpSpPr>
          <p:grpSpPr>
            <a:xfrm>
              <a:off x="4006800" y="1630440"/>
              <a:ext cx="593640" cy="563400"/>
              <a:chOff x="4006800" y="1630440"/>
              <a:chExt cx="593640" cy="563400"/>
            </a:xfrm>
          </p:grpSpPr>
          <p:pic>
            <p:nvPicPr>
              <p:cNvPr id="229" name="Picture 19" descr=""/>
              <p:cNvPicPr/>
              <p:nvPr/>
            </p:nvPicPr>
            <p:blipFill>
              <a:blip r:embed="rId5"/>
              <a:stretch/>
            </p:blipFill>
            <p:spPr>
              <a:xfrm>
                <a:off x="4006800" y="1630440"/>
                <a:ext cx="593640" cy="56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0" name="Rectangle 20"/>
              <p:cNvSpPr/>
              <p:nvPr/>
            </p:nvSpPr>
            <p:spPr>
              <a:xfrm>
                <a:off x="4451400" y="1886400"/>
                <a:ext cx="148680" cy="14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1" name="Group 21"/>
            <p:cNvGrpSpPr/>
            <p:nvPr/>
          </p:nvGrpSpPr>
          <p:grpSpPr>
            <a:xfrm>
              <a:off x="4464000" y="1630440"/>
              <a:ext cx="593640" cy="563400"/>
              <a:chOff x="4464000" y="1630440"/>
              <a:chExt cx="593640" cy="563400"/>
            </a:xfrm>
          </p:grpSpPr>
          <p:pic>
            <p:nvPicPr>
              <p:cNvPr id="232" name="Picture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4464000" y="1630440"/>
                <a:ext cx="593640" cy="56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3" name="Rectangle 23"/>
              <p:cNvSpPr/>
              <p:nvPr/>
            </p:nvSpPr>
            <p:spPr>
              <a:xfrm>
                <a:off x="4908600" y="1886400"/>
                <a:ext cx="148680" cy="14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34" name="Group 24"/>
          <p:cNvGrpSpPr/>
          <p:nvPr/>
        </p:nvGrpSpPr>
        <p:grpSpPr>
          <a:xfrm>
            <a:off x="3505320" y="2224080"/>
            <a:ext cx="1506240" cy="563400"/>
            <a:chOff x="3505320" y="2224080"/>
            <a:chExt cx="1506240" cy="563400"/>
          </a:xfrm>
        </p:grpSpPr>
        <p:grpSp>
          <p:nvGrpSpPr>
            <p:cNvPr id="235" name="Group 25"/>
            <p:cNvGrpSpPr/>
            <p:nvPr/>
          </p:nvGrpSpPr>
          <p:grpSpPr>
            <a:xfrm>
              <a:off x="3505320" y="2224080"/>
              <a:ext cx="593280" cy="563400"/>
              <a:chOff x="3505320" y="2224080"/>
              <a:chExt cx="593280" cy="563400"/>
            </a:xfrm>
          </p:grpSpPr>
          <p:pic>
            <p:nvPicPr>
              <p:cNvPr id="236" name="Picture 26" descr=""/>
              <p:cNvPicPr/>
              <p:nvPr/>
            </p:nvPicPr>
            <p:blipFill>
              <a:blip r:embed="rId7"/>
              <a:stretch/>
            </p:blipFill>
            <p:spPr>
              <a:xfrm>
                <a:off x="3505320" y="2224080"/>
                <a:ext cx="592200" cy="56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7" name="Rectangle 27"/>
              <p:cNvSpPr/>
              <p:nvPr/>
            </p:nvSpPr>
            <p:spPr>
              <a:xfrm>
                <a:off x="3950280" y="2480040"/>
                <a:ext cx="148320" cy="14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8" name="Group 28"/>
            <p:cNvGrpSpPr/>
            <p:nvPr/>
          </p:nvGrpSpPr>
          <p:grpSpPr>
            <a:xfrm>
              <a:off x="3962520" y="2224080"/>
              <a:ext cx="591840" cy="563400"/>
              <a:chOff x="3962520" y="2224080"/>
              <a:chExt cx="591840" cy="563400"/>
            </a:xfrm>
          </p:grpSpPr>
          <p:pic>
            <p:nvPicPr>
              <p:cNvPr id="239" name="Picture 29" descr=""/>
              <p:cNvPicPr/>
              <p:nvPr/>
            </p:nvPicPr>
            <p:blipFill>
              <a:blip r:embed="rId8"/>
              <a:stretch/>
            </p:blipFill>
            <p:spPr>
              <a:xfrm>
                <a:off x="3962520" y="2224080"/>
                <a:ext cx="591840" cy="56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0" name="Rectangle 30"/>
              <p:cNvSpPr/>
              <p:nvPr/>
            </p:nvSpPr>
            <p:spPr>
              <a:xfrm>
                <a:off x="4405320" y="2480040"/>
                <a:ext cx="148680" cy="14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1" name="Group 31"/>
            <p:cNvGrpSpPr/>
            <p:nvPr/>
          </p:nvGrpSpPr>
          <p:grpSpPr>
            <a:xfrm>
              <a:off x="4419720" y="2224080"/>
              <a:ext cx="591840" cy="563400"/>
              <a:chOff x="4419720" y="2224080"/>
              <a:chExt cx="591840" cy="563400"/>
            </a:xfrm>
          </p:grpSpPr>
          <p:pic>
            <p:nvPicPr>
              <p:cNvPr id="242" name="Picture 32" descr=""/>
              <p:cNvPicPr/>
              <p:nvPr/>
            </p:nvPicPr>
            <p:blipFill>
              <a:blip r:embed="rId9"/>
              <a:stretch/>
            </p:blipFill>
            <p:spPr>
              <a:xfrm>
                <a:off x="4419720" y="2224080"/>
                <a:ext cx="591840" cy="56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3" name="Rectangle 33"/>
              <p:cNvSpPr/>
              <p:nvPr/>
            </p:nvSpPr>
            <p:spPr>
              <a:xfrm>
                <a:off x="4862520" y="2480040"/>
                <a:ext cx="148680" cy="14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44" name="Group 34"/>
          <p:cNvGrpSpPr/>
          <p:nvPr/>
        </p:nvGrpSpPr>
        <p:grpSpPr>
          <a:xfrm>
            <a:off x="2971800" y="2863800"/>
            <a:ext cx="1506600" cy="563760"/>
            <a:chOff x="2971800" y="2863800"/>
            <a:chExt cx="1506600" cy="563760"/>
          </a:xfrm>
        </p:grpSpPr>
        <p:grpSp>
          <p:nvGrpSpPr>
            <p:cNvPr id="245" name="Group 35"/>
            <p:cNvGrpSpPr/>
            <p:nvPr/>
          </p:nvGrpSpPr>
          <p:grpSpPr>
            <a:xfrm>
              <a:off x="2971800" y="2863800"/>
              <a:ext cx="593280" cy="563760"/>
              <a:chOff x="2971800" y="2863800"/>
              <a:chExt cx="593280" cy="563760"/>
            </a:xfrm>
          </p:grpSpPr>
          <p:pic>
            <p:nvPicPr>
              <p:cNvPr id="246" name="Picture 36" descr=""/>
              <p:cNvPicPr/>
              <p:nvPr/>
            </p:nvPicPr>
            <p:blipFill>
              <a:blip r:embed="rId10"/>
              <a:stretch/>
            </p:blipFill>
            <p:spPr>
              <a:xfrm>
                <a:off x="2971800" y="2863800"/>
                <a:ext cx="591840" cy="56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7" name="Rectangle 37"/>
              <p:cNvSpPr/>
              <p:nvPr/>
            </p:nvSpPr>
            <p:spPr>
              <a:xfrm>
                <a:off x="3416400" y="3120480"/>
                <a:ext cx="148680" cy="14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8" name="Group 38"/>
            <p:cNvGrpSpPr/>
            <p:nvPr/>
          </p:nvGrpSpPr>
          <p:grpSpPr>
            <a:xfrm>
              <a:off x="3429000" y="2863800"/>
              <a:ext cx="592200" cy="563760"/>
              <a:chOff x="3429000" y="2863800"/>
              <a:chExt cx="592200" cy="563760"/>
            </a:xfrm>
          </p:grpSpPr>
          <p:pic>
            <p:nvPicPr>
              <p:cNvPr id="249" name="Picture 39" descr=""/>
              <p:cNvPicPr/>
              <p:nvPr/>
            </p:nvPicPr>
            <p:blipFill>
              <a:blip r:embed="rId11"/>
              <a:stretch/>
            </p:blipFill>
            <p:spPr>
              <a:xfrm>
                <a:off x="3429000" y="2863800"/>
                <a:ext cx="592200" cy="56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Rectangle 40"/>
              <p:cNvSpPr/>
              <p:nvPr/>
            </p:nvSpPr>
            <p:spPr>
              <a:xfrm>
                <a:off x="3872520" y="3120480"/>
                <a:ext cx="148320" cy="14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1" name="Group 41"/>
            <p:cNvGrpSpPr/>
            <p:nvPr/>
          </p:nvGrpSpPr>
          <p:grpSpPr>
            <a:xfrm>
              <a:off x="3886200" y="2863800"/>
              <a:ext cx="592200" cy="563760"/>
              <a:chOff x="3886200" y="2863800"/>
              <a:chExt cx="592200" cy="563760"/>
            </a:xfrm>
          </p:grpSpPr>
          <p:pic>
            <p:nvPicPr>
              <p:cNvPr id="252" name="Picture 42" descr=""/>
              <p:cNvPicPr/>
              <p:nvPr/>
            </p:nvPicPr>
            <p:blipFill>
              <a:blip r:embed="rId12"/>
              <a:stretch/>
            </p:blipFill>
            <p:spPr>
              <a:xfrm>
                <a:off x="3886200" y="2863800"/>
                <a:ext cx="592200" cy="56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Rectangle 43"/>
              <p:cNvSpPr/>
              <p:nvPr/>
            </p:nvSpPr>
            <p:spPr>
              <a:xfrm>
                <a:off x="4329720" y="3120480"/>
                <a:ext cx="148320" cy="14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254" name="Picture 44" descr=""/>
          <p:cNvPicPr/>
          <p:nvPr/>
        </p:nvPicPr>
        <p:blipFill>
          <a:blip r:embed="rId13"/>
          <a:stretch/>
        </p:blipFill>
        <p:spPr>
          <a:xfrm>
            <a:off x="685800" y="1158840"/>
            <a:ext cx="1052640" cy="7858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45" descr=""/>
          <p:cNvPicPr/>
          <p:nvPr/>
        </p:nvPicPr>
        <p:blipFill>
          <a:blip r:embed="rId14"/>
          <a:stretch/>
        </p:blipFill>
        <p:spPr>
          <a:xfrm>
            <a:off x="1752480" y="1676520"/>
            <a:ext cx="611280" cy="6397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46" descr=""/>
          <p:cNvPicPr/>
          <p:nvPr/>
        </p:nvPicPr>
        <p:blipFill>
          <a:blip r:embed="rId15"/>
          <a:stretch/>
        </p:blipFill>
        <p:spPr>
          <a:xfrm>
            <a:off x="2529000" y="1173240"/>
            <a:ext cx="334800" cy="3603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7" descr=""/>
          <p:cNvPicPr/>
          <p:nvPr/>
        </p:nvPicPr>
        <p:blipFill>
          <a:blip r:embed="rId16"/>
          <a:stretch/>
        </p:blipFill>
        <p:spPr>
          <a:xfrm>
            <a:off x="2849400" y="1676520"/>
            <a:ext cx="333360" cy="3585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48" descr=""/>
          <p:cNvPicPr/>
          <p:nvPr/>
        </p:nvPicPr>
        <p:blipFill>
          <a:blip r:embed="rId17"/>
          <a:stretch/>
        </p:blipFill>
        <p:spPr>
          <a:xfrm>
            <a:off x="2666880" y="2179800"/>
            <a:ext cx="333360" cy="358560"/>
          </a:xfrm>
          <a:prstGeom prst="rect">
            <a:avLst/>
          </a:prstGeom>
          <a:ln w="0">
            <a:noFill/>
          </a:ln>
        </p:spPr>
      </p:pic>
      <p:sp>
        <p:nvSpPr>
          <p:cNvPr id="259" name="Line 49"/>
          <p:cNvSpPr/>
          <p:nvPr/>
        </p:nvSpPr>
        <p:spPr>
          <a:xfrm flipV="1">
            <a:off x="2163600" y="1477800"/>
            <a:ext cx="411480" cy="26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Line 50"/>
          <p:cNvSpPr/>
          <p:nvPr/>
        </p:nvSpPr>
        <p:spPr>
          <a:xfrm flipV="1">
            <a:off x="2209680" y="1889280"/>
            <a:ext cx="685800" cy="7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Line 51"/>
          <p:cNvSpPr/>
          <p:nvPr/>
        </p:nvSpPr>
        <p:spPr>
          <a:xfrm>
            <a:off x="2209680" y="2087640"/>
            <a:ext cx="54792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52"/>
          <p:cNvSpPr/>
          <p:nvPr/>
        </p:nvSpPr>
        <p:spPr>
          <a:xfrm>
            <a:off x="2757600" y="1173240"/>
            <a:ext cx="320400" cy="1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54720" tIns="27360" bIns="2736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AP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53"/>
          <p:cNvSpPr/>
          <p:nvPr/>
        </p:nvSpPr>
        <p:spPr>
          <a:xfrm>
            <a:off x="2483280" y="1494000"/>
            <a:ext cx="262440" cy="1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CH1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54"/>
          <p:cNvSpPr/>
          <p:nvPr/>
        </p:nvSpPr>
        <p:spPr>
          <a:xfrm>
            <a:off x="2804040" y="1996920"/>
            <a:ext cx="262440" cy="1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CH6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55"/>
          <p:cNvSpPr/>
          <p:nvPr/>
        </p:nvSpPr>
        <p:spPr>
          <a:xfrm>
            <a:off x="2575440" y="2500200"/>
            <a:ext cx="305280" cy="1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CH11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Line 56"/>
          <p:cNvSpPr/>
          <p:nvPr/>
        </p:nvSpPr>
        <p:spPr>
          <a:xfrm flipH="1" flipV="1">
            <a:off x="1507680" y="1523880"/>
            <a:ext cx="39708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57"/>
          <p:cNvSpPr/>
          <p:nvPr/>
        </p:nvSpPr>
        <p:spPr>
          <a:xfrm>
            <a:off x="3063960" y="620640"/>
            <a:ext cx="287964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54720" tIns="27360" bIns="2736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Up to 30-40 laptops per AP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Up to 300 laptops per school server.</a:t>
            </a:r>
            <a:br>
              <a:rPr sz="1100"/>
            </a:b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Requires RF site survey and carefully designed infrastructure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Camrbridge, MA
April 23-27, 2007
</dc:description>
  <dc:language>en-US</dc:language>
  <cp:lastModifiedBy> </cp:lastModifiedBy>
  <dcterms:modified xsi:type="dcterms:W3CDTF">2008-09-18T17:58:25Z</dcterms:modified>
  <cp:revision>1</cp:revision>
  <dc:subject/>
  <dc:title>One Laptop per Child</dc:title>
</cp:coreProperties>
</file>